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547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547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183920"/>
            <a:ext cx="77547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547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3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120" y="1980720"/>
            <a:ext cx="3783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183920"/>
            <a:ext cx="3783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120" y="4183920"/>
            <a:ext cx="3783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547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496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7680" y="1980720"/>
            <a:ext cx="2496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980720"/>
            <a:ext cx="2496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183920"/>
            <a:ext cx="2496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7680" y="4183920"/>
            <a:ext cx="2496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4183920"/>
            <a:ext cx="2496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547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5476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547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5476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547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396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120" y="1980720"/>
            <a:ext cx="378396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547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479160"/>
            <a:ext cx="7754760" cy="64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547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3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120" y="1980720"/>
            <a:ext cx="378396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183920"/>
            <a:ext cx="3783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547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396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120" y="1980720"/>
            <a:ext cx="3783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120" y="4183920"/>
            <a:ext cx="3783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547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3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120" y="1980720"/>
            <a:ext cx="37839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183920"/>
            <a:ext cx="7754760" cy="20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7162920" y="838080"/>
            <a:ext cx="1981080" cy="6336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79160"/>
            <a:ext cx="77547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5476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991200" y="838080"/>
            <a:ext cx="1981440" cy="633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9600" y="2104920"/>
            <a:ext cx="848196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99"/>
                </a:solidFill>
                <a:latin typeface="Arial Unicode MS"/>
              </a:rPr>
              <a:t>Conselho Nacional de Recursos Híd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Câmara Técnica Análise de Pro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CT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Unicode MS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Arial Unicode MS"/>
              </a:rPr>
              <a:t>JULIO THADEU SILVA KETTELH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Arial Unicode MS"/>
              </a:rPr>
              <a:t>SRH/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Arial Unicode MS"/>
              </a:rPr>
              <a:t>João Pessoa – P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Arial Unicode MS"/>
              </a:rPr>
              <a:t>22 de novembro de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78120"/>
            <a:ext cx="77724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280099"/>
                </a:solidFill>
                <a:uFillTx/>
                <a:latin typeface="Arial Unicode MS"/>
              </a:rPr>
              <a:t>Câmara Técnica Análise de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6760" y="2418840"/>
            <a:ext cx="86104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0">
              <a:lnSpc>
                <a:spcPts val="2775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Arial Unicode MS"/>
              </a:rPr>
              <a:t>CRIAÇÃO:</a:t>
            </a:r>
            <a:r>
              <a:rPr b="1" lang="en-US" sz="20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</a:rPr>
              <a:t>Resolução CNRH nº 8, de 21 de junho de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Arial Unicode MS"/>
              </a:rPr>
              <a:t>REUNIÃO DE INSTALAÇÃO: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</a:rPr>
              <a:t>6/07/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Arial Unicode MS"/>
              </a:rPr>
              <a:t>Presidente: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</a:rPr>
              <a:t>Julio Thadeu Silva Kettelhut (julio.kettelhut@mma.gov.b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Arial Unicode MS"/>
              </a:rPr>
              <a:t>Relator: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</a:rPr>
              <a:t>Aureliano Cesar Martins Sil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</a:rPr>
              <a:t>(aureliano-cesar.silva@mma.gov.b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280099"/>
                </a:solidFill>
                <a:uFillTx/>
                <a:latin typeface="Arial Unicode MS"/>
              </a:rPr>
              <a:t>Câmara Técnica Análise de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923840"/>
            <a:ext cx="8534160" cy="47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</a:rPr>
              <a:t>ATRIBU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280099"/>
                </a:solidFill>
                <a:latin typeface="Arial Unicode MS"/>
              </a:rPr>
              <a:t>I - acompanhar, analisar, estudar e emitir parecer sobre projetos de aproveitamento de recursos hídricos, cujas repercussões extrapolem o âmbito dos estados em que serão implantad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280099"/>
                </a:solidFill>
                <a:latin typeface="Arial Unicode MS"/>
              </a:rPr>
              <a:t>II - analisar e emitir parecer sobre eventuais conflitos, relativos a projetos e ações em bacias, entre os Conselhos Estaduais de Recursos Hídric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280099"/>
                </a:solidFill>
                <a:latin typeface="Arial Unicode MS"/>
              </a:rPr>
              <a:t>III - analisar e dar parecer sobre as questões encaminhadas pelos Conselhos Estaduais de Recursos Hídricos ou Comitês de Bacias que estejam relacionadas a esta Câma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280099"/>
                </a:solidFill>
                <a:latin typeface="Arial Unicode MS"/>
              </a:rPr>
              <a:t>IV - propor ações mitigadoras e compensatórias;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280099"/>
                </a:solidFill>
                <a:latin typeface="Arial Unicode MS"/>
              </a:rPr>
              <a:t>V - as competências constantes do Regimento Interno do CNRH e outras que vierem a ser delegadas pelo seu Plená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59080"/>
            <a:ext cx="77724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280099"/>
                </a:solidFill>
                <a:uFillTx/>
                <a:latin typeface="Arial Unicode MS"/>
              </a:rPr>
              <a:t>Câmara Técnica Análise de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160" y="1905120"/>
            <a:ext cx="436392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</a:rPr>
              <a:t>COMPOSIÇÃO (17 membro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280099"/>
                </a:solidFill>
                <a:latin typeface="Arial Unicode MS"/>
              </a:rPr>
              <a:t>MMA- Secretaria de Recursos Hídricos (President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280099"/>
                </a:solidFill>
                <a:latin typeface="Arial Unicode MS"/>
              </a:rPr>
              <a:t>MMA- Agência Nacional de Água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280099"/>
                </a:solidFill>
                <a:latin typeface="Arial Unicode MS"/>
              </a:rPr>
              <a:t>Ministério dos Transport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280099"/>
                </a:solidFill>
                <a:latin typeface="Arial Unicode MS"/>
              </a:rPr>
              <a:t>Ministério da Defes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280099"/>
                </a:solidFill>
                <a:latin typeface="Arial Unicode MS"/>
              </a:rPr>
              <a:t>Ministério da Ciência e Tecnologi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280099"/>
                </a:solidFill>
                <a:latin typeface="Arial Unicode MS"/>
              </a:rPr>
              <a:t>Ministério de Minas e Energi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280099"/>
                </a:solidFill>
                <a:latin typeface="Arial Unicode MS"/>
              </a:rPr>
              <a:t>Ministério das Cidad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280099"/>
                </a:solidFill>
                <a:latin typeface="Arial Unicode MS"/>
              </a:rPr>
              <a:t>Ministério da Integração Nacion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280099"/>
                </a:solidFill>
                <a:latin typeface="Arial Unicode MS"/>
              </a:rPr>
              <a:t>Ministério da Saúd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280099"/>
                </a:solidFill>
                <a:latin typeface="Arial Unicode MS"/>
              </a:rPr>
              <a:t>Secretaria Especial de Aquicultura e Pesc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65800" y="2120760"/>
            <a:ext cx="476244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5440" indent="-325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r>
              <a:rPr b="1" lang="en-US" sz="1600" spc="-1" strike="noStrike">
                <a:solidFill>
                  <a:srgbClr val="280099"/>
                </a:solidFill>
                <a:latin typeface="Arial Unicode MS"/>
              </a:rPr>
              <a:t>Conselhos Estaduais de Recursos Hídricos – Goiás/Distrito Feder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r>
              <a:rPr b="1" lang="en-US" sz="1600" spc="-1" strike="noStrike">
                <a:solidFill>
                  <a:srgbClr val="280099"/>
                </a:solidFill>
                <a:latin typeface="Arial Unicode MS"/>
              </a:rPr>
              <a:t>Setor Hidroviário – Terminais Portuários Privativ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r>
              <a:rPr b="1" lang="en-US" sz="1600" spc="-1" strike="noStrike">
                <a:solidFill>
                  <a:srgbClr val="280099"/>
                </a:solidFill>
                <a:latin typeface="Arial Unicode MS"/>
              </a:rPr>
              <a:t>Concessionárias e Autorizadas de Geração Hidrelétric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r>
              <a:rPr b="1" lang="en-US" sz="1600" spc="-1" strike="noStrike">
                <a:solidFill>
                  <a:srgbClr val="280099"/>
                </a:solidFill>
                <a:latin typeface="Arial Unicode MS"/>
              </a:rPr>
              <a:t>Comitês de Bacias Hidrográfica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r>
              <a:rPr b="1" lang="en-US" sz="1600" spc="-1" strike="noStrike">
                <a:solidFill>
                  <a:srgbClr val="280099"/>
                </a:solidFill>
                <a:latin typeface="Arial Unicode MS"/>
              </a:rPr>
              <a:t>Consórcios e Associações Intermunicipais de Bacias Hidrográf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r>
              <a:rPr b="1" lang="en-US" sz="1600" spc="-1" strike="noStrike">
                <a:solidFill>
                  <a:srgbClr val="280099"/>
                </a:solidFill>
                <a:latin typeface="Arial Unicode MS"/>
              </a:rPr>
              <a:t>Organizações Técnicas de Ensino e Pesquis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r>
              <a:rPr b="1" lang="en-US" sz="1600" spc="-1" strike="noStrike">
                <a:solidFill>
                  <a:srgbClr val="280099"/>
                </a:solidFill>
                <a:latin typeface="Arial Unicode MS"/>
              </a:rPr>
              <a:t>Organizações Não Governamenta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95440"/>
            <a:ext cx="77724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280099"/>
                </a:solidFill>
                <a:uFillTx/>
                <a:latin typeface="Arial Unicode MS"/>
              </a:rPr>
              <a:t>Câmara Técnica Análise de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6520" y="2339640"/>
            <a:ext cx="8458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0">
              <a:lnSpc>
                <a:spcPts val="1738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       </a:t>
            </a: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ATIVIDADES REA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ts val="1738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280099"/>
                </a:solidFill>
                <a:latin typeface="Arial Unicode MS"/>
              </a:rPr>
              <a:t>Nº de Reuniões: </a:t>
            </a: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 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280099"/>
                </a:solidFill>
                <a:latin typeface="Arial Unicode MS"/>
              </a:rPr>
              <a:t>Total de participantes: </a:t>
            </a: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1.139 – média de 23,3 por reuni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6880" y="4302000"/>
            <a:ext cx="8458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5440" indent="-325440">
              <a:lnSpc>
                <a:spcPts val="1738"/>
              </a:lnSpc>
              <a:spcBef>
                <a:spcPts val="349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r>
              <a:rPr b="1" lang="en-US" sz="1600" spc="-1" strike="noStrike">
                <a:solidFill>
                  <a:srgbClr val="280099"/>
                </a:solidFill>
                <a:latin typeface="Arial Unicode MS"/>
              </a:rPr>
              <a:t>       </a:t>
            </a:r>
            <a:r>
              <a:rPr b="1" lang="en-US" sz="1400" spc="-1" strike="noStrike">
                <a:solidFill>
                  <a:srgbClr val="280099"/>
                </a:solidFill>
                <a:latin typeface="Arial Unicode MS"/>
              </a:rPr>
              <a:t>Composição:</a:t>
            </a: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 até 11ª reunião: 7 memb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ts val="1738"/>
              </a:lnSpc>
              <a:spcBef>
                <a:spcPts val="349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                                </a:t>
            </a: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da 12ª a 22ª  reunião:13 memb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ts val="1738"/>
              </a:lnSpc>
              <a:spcBef>
                <a:spcPts val="349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                                </a:t>
            </a: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a partir da 23ª reunião:17 memb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280099"/>
                </a:solidFill>
                <a:uFillTx/>
                <a:latin typeface="Arial Unicode MS"/>
              </a:rPr>
              <a:t>Câmara Técnica Análise de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059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0">
              <a:lnSpc>
                <a:spcPts val="2563"/>
              </a:lnSpc>
              <a:spcBef>
                <a:spcPts val="4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Principais assu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 Unicode MS"/>
              </a:rPr>
              <a:t>Propostas de resolu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280099"/>
                </a:solidFill>
                <a:latin typeface="Arial Unicode MS"/>
              </a:rPr>
              <a:t>Critérios gerais para análise de proje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 Unicode MS"/>
              </a:rPr>
              <a:t>Mo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280099"/>
                </a:solidFill>
                <a:latin typeface="Arial Unicode MS"/>
              </a:rPr>
              <a:t>MOÇÃO N</a:t>
            </a:r>
            <a:r>
              <a:rPr b="1" i="1" lang="en-US" sz="1400" spc="-1" strike="noStrike" u="sng" baseline="36000">
                <a:solidFill>
                  <a:srgbClr val="280099"/>
                </a:solidFill>
                <a:uFillTx/>
                <a:latin typeface="Arial Unicode MS"/>
              </a:rPr>
              <a:t>o</a:t>
            </a:r>
            <a:r>
              <a:rPr b="1" i="1" lang="en-US" sz="1400" spc="-1" strike="noStrike">
                <a:solidFill>
                  <a:srgbClr val="280099"/>
                </a:solidFill>
                <a:latin typeface="Arial Unicode MS"/>
              </a:rPr>
              <a:t> 24, Solicita ações na bacia hidrográfica do Rio Guandu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280099"/>
                </a:solidFill>
                <a:latin typeface="Arial Unicode MS"/>
              </a:rPr>
              <a:t>MOÇÃO N</a:t>
            </a:r>
            <a:r>
              <a:rPr b="1" i="1" lang="en-US" sz="1100" spc="-1" strike="noStrike" u="sng" baseline="32000">
                <a:solidFill>
                  <a:srgbClr val="280099"/>
                </a:solidFill>
                <a:uFillTx/>
                <a:latin typeface="Arial Unicode MS"/>
              </a:rPr>
              <a:t>o</a:t>
            </a:r>
            <a:r>
              <a:rPr b="1" i="1" lang="en-US" sz="1400" spc="-1" strike="noStrike">
                <a:solidFill>
                  <a:srgbClr val="280099"/>
                </a:solidFill>
                <a:latin typeface="Arial Unicode MS"/>
              </a:rPr>
              <a:t> 32, Recomenda a aprovação de substitutivo ao PL nº 1.181, de 200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 Unicode MS"/>
              </a:rPr>
              <a:t>Mediação de conflitos (múltiplos usos: turismo, pesca, irrigação, energia elétrica, et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280099"/>
                </a:solidFill>
                <a:latin typeface="Arial Unicode MS"/>
              </a:rPr>
              <a:t>Caconde, Serra da Mesa, Furnas, Estreito e Serra Quebrada (área indígen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 Unicode MS"/>
              </a:rPr>
              <a:t>Análise de proje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280099"/>
                </a:solidFill>
                <a:latin typeface="Arial Unicode MS"/>
              </a:rPr>
              <a:t>PL 1181/2003 – Segurança de Barragen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280099"/>
                </a:solidFill>
                <a:latin typeface="Arial Unicode MS"/>
              </a:rPr>
              <a:t>PL 3009/97 e 4693/2004 – Construção de Eclusa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280099"/>
                </a:solidFill>
                <a:latin typeface="Arial Unicode MS"/>
              </a:rPr>
              <a:t>PL nº 229/95 – Senado Federal -  uma nova Política Nacional de Irrigaçã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280099"/>
                </a:solidFill>
                <a:latin typeface="Arial Unicode MS"/>
              </a:rPr>
              <a:t>PL 4.038/2004, Contratação de Seguro Contra o Rompimento de Barrage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280099"/>
                </a:solidFill>
                <a:uFillTx/>
                <a:latin typeface="Arial Unicode MS"/>
              </a:rPr>
              <a:t>Câmara Técnica Análise de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059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0">
              <a:lnSpc>
                <a:spcPts val="2563"/>
              </a:lnSpc>
              <a:spcBef>
                <a:spcPts val="4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      </a:t>
            </a:r>
            <a:r>
              <a:rPr b="1" i="1" lang="en-US" sz="1400" spc="-1" strike="noStrike">
                <a:solidFill>
                  <a:srgbClr val="ff0000"/>
                </a:solidFill>
                <a:latin typeface="Arial Unicode MS"/>
              </a:rPr>
              <a:t>Programas e apresenta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1" i="1" lang="en-US" sz="1400" spc="-1" strike="noStrike">
                <a:solidFill>
                  <a:srgbClr val="280099"/>
                </a:solidFill>
                <a:latin typeface="Arial Unicode MS"/>
              </a:rPr>
              <a:t>Programa Nacional de Hidrovias: Situação atual e perspectivas. Planejamento do setor hidroviário na bacia hidrográfica dos rios Araguaia, Tocantins e Madeira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280099"/>
                </a:solidFill>
                <a:latin typeface="Arial"/>
              </a:rPr>
              <a:t>Programa Nacional de Saneamento. Situação atual, impactos nos recursos hídricos e uma agenda de açõ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280099"/>
                </a:solidFill>
                <a:latin typeface="Arial"/>
              </a:rPr>
              <a:t>Ação do DNPM no controle e avaliação de barragens de rejeitos na mineraçã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280099"/>
                </a:solidFill>
                <a:latin typeface="Arial"/>
              </a:rPr>
              <a:t>Empreendimentos hidrelétricos da bacia dos rios</a:t>
            </a:r>
            <a:r>
              <a:rPr b="1" i="1" lang="en-US" sz="1400" spc="-1" strike="noStrike">
                <a:solidFill>
                  <a:srgbClr val="280099"/>
                </a:solidFill>
                <a:latin typeface="Arial Unicode MS"/>
              </a:rPr>
              <a:t> Tocantins/Araguai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280099"/>
                </a:solidFill>
                <a:latin typeface="Arial Unicode MS"/>
              </a:rPr>
              <a:t>Decreto 4.024, de 21/11/01, que estabelece critérios para implantação ou financiamento de obras de infra-estrutura hídrica, com recursos financeiros da Uniã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280099"/>
                </a:solidFill>
                <a:latin typeface="Arial Unicode MS"/>
              </a:rPr>
              <a:t>Procedimentos a serem adotados para a emissão, pela Agência Nacional de Águas, do Certificado de Avaliação da Sustentabilidade da Obra - CERTOH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280099"/>
                </a:solidFill>
                <a:latin typeface="Arial Unicode MS"/>
              </a:rPr>
              <a:t>Plano integrado de imediata resposta a emergências e acidentes; sistema nacional de informação e reposta imediata a emergências e acidentes em recursos hídricos, cultura de segurança da águ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280099"/>
                </a:solidFill>
                <a:uFillTx/>
                <a:latin typeface="Arial Unicode MS"/>
              </a:rPr>
              <a:t>Câmara Técnica Análise de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059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0">
              <a:lnSpc>
                <a:spcPts val="2563"/>
              </a:lnSpc>
              <a:spcBef>
                <a:spcPts val="4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Assuntos em discus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ts val="2563"/>
              </a:lnSpc>
              <a:spcBef>
                <a:spcPts val="4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280099"/>
                </a:solidFill>
                <a:latin typeface="Arial Unicode MS"/>
              </a:rPr>
              <a:t>I – Grupo de Trabalho UHE Furnas. 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Mediação de conflito sobre os múltiplos usos do reservatório, inclusive a cota de operação da barrag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280099"/>
                </a:solidFill>
                <a:latin typeface="Arial Unicode MS"/>
              </a:rPr>
              <a:t>II – Grupo de Trabalho Eclusas Integradas. 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Análise dos projetos de lei nº 3009/97 e 4693/2004 que dispõem sobre a obrigatoriedade da construção de eclusas e mecanismos de proteção à ictiofauna, simultaneamente às barrage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2286000"/>
            <a:ext cx="830592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5440" indent="-325440">
              <a:lnSpc>
                <a:spcPts val="2563"/>
              </a:lnSpc>
              <a:spcBef>
                <a:spcPts val="476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ts val="2563"/>
              </a:lnSpc>
              <a:spcBef>
                <a:spcPts val="476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ts val="2563"/>
              </a:lnSpc>
              <a:spcBef>
                <a:spcPts val="476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ts val="2563"/>
              </a:lnSpc>
              <a:spcBef>
                <a:spcPts val="476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ts val="2563"/>
              </a:lnSpc>
              <a:spcBef>
                <a:spcPts val="476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 algn="ctr"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r>
              <a:rPr b="1" lang="en-US" sz="3200" spc="-1" strike="noStrike">
                <a:solidFill>
                  <a:srgbClr val="280099"/>
                </a:solidFill>
                <a:latin typeface="Arial Unicode MS"/>
              </a:rPr>
              <a:t>                          </a:t>
            </a:r>
            <a:r>
              <a:rPr b="1" lang="en-US" sz="3200" spc="-1" strike="noStrike">
                <a:solidFill>
                  <a:srgbClr val="280099"/>
                </a:solidFill>
                <a:latin typeface="Arial Unicode MS"/>
              </a:rPr>
              <a:t>OBRI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iente</cp:lastModifiedBy>
  <dcterms:modified xsi:type="dcterms:W3CDTF">2005-11-22T13:01:39Z</dcterms:modified>
  <cp:revision>2</cp:revision>
  <dc:subject/>
  <dc:title>Slide 1</dc:title>
</cp:coreProperties>
</file>